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AC5-7314-478E-8FF5-1D013AA8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9A4-6B5B-48EB-9E9D-58FEC8EC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5967-AEA0-4F4D-A9D3-B8F9A25E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53BA-F192-4063-935F-4099FACF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790-BC09-49C5-811E-9E696B9B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31BA-6F0D-463A-ACF5-986268C6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B866-EF44-4742-B0B5-1BC4A9CA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4817-8EEE-44B2-A1C5-530F54E5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066-A6EC-401F-BCC7-414167CB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EC11-FB5B-4987-93D8-368A6368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CE9-51E5-4E72-910B-CD847921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904-E7C0-4917-A76B-B89140CD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9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E2C5-E26E-476B-82BE-E0368BBC4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9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57146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rsi.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11760" y="6583320"/>
            <a:ext cx="525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edia-2.web.britannica.com/eb-media/42/115042-004-B88D727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5187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9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28600"/>
            <a:ext cx="8001000" cy="2356560"/>
          </a:xfrm>
          <a:prstGeom prst="rect">
            <a:avLst/>
          </a:prstGeom>
          <a:solidFill>
            <a:srgbClr val="ffe8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writing a report about Black Bostonians in the1850s. You cannot find enough information in any of your social studies books. What other sources could you use to get inform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lect three different primar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urc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71800"/>
            <a:ext cx="86868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17720" indent="172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spaper articles written at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172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172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172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urnals of individuals living in Boston during the 185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172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172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172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rt transcripts from the Massachusetts Supreme Judicial Court regarding the decision deny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 Americans equal access to sch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172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172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172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  <a:tab algn="l" pos="9767880"/>
                <a:tab algn="l" pos="10233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own refle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9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124080"/>
            <a:ext cx="9144000" cy="29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 children had access to better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ack children had access to better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 children faced se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ack children faced segregat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tabLst>
                <a:tab algn="l" pos="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3320" y="309600"/>
            <a:ext cx="8305920" cy="222696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e you could use a time machine to visit the past. You have landed in Boston in the 1850s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lect all of the way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at Black children were treated differently from White children in Bos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9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85800"/>
            <a:ext cx="8610480" cy="137376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as the name of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850’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ssachusetts Supreme Judicial Court decisi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ny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lack Americans equal access to schoo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2819520"/>
            <a:ext cx="716292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berts v. The City of Bo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wn v. Board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coln v. Doug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bury v. Mad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9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685800"/>
            <a:ext cx="8381880" cy="137376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4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as the name of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50’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.S. Supreme Court decisi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nda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at Black Americans have equal access to schoo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819520"/>
            <a:ext cx="716292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berts v. The City of Bo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wn v. Board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coln v. Doug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buClr>
                <a:srgbClr val="000000"/>
              </a:buClr>
              <a:buFont typeface="Arial"/>
              <a:buAutoNum type="alphaUcPeriod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bury v. Mad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9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2743200"/>
            <a:ext cx="571500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teenth Ame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eenth Ame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eenth Ame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eenth Amend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533520"/>
            <a:ext cx="8610840" cy="155628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amendments stated that no one could be denied the right to vote due to r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9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0948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133720"/>
            <a:ext cx="838224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te schools can exist for black and white children as long as the quality of education offered in the schools is of equal 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te schools can exist for black and white children even if the quality is not eq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gregation is wrong and should be b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5240">
              <a:buClr>
                <a:srgbClr val="000000"/>
              </a:buClr>
              <a:buFont typeface="Arial"/>
              <a:buAutoNum type="alphaUcPeriod"/>
              <a:tabLst>
                <a:tab algn="l" pos="509760"/>
                <a:tab algn="l" pos="1019160"/>
                <a:tab algn="l" pos="1528920"/>
                <a:tab algn="l" pos="2038320"/>
                <a:tab algn="l" pos="2548080"/>
                <a:tab algn="l" pos="3057480"/>
                <a:tab algn="l" pos="3567240"/>
                <a:tab algn="l" pos="4076640"/>
                <a:tab algn="l" pos="4586400"/>
                <a:tab algn="l" pos="5095800"/>
                <a:tab algn="l" pos="5605560"/>
                <a:tab algn="l" pos="6114960"/>
                <a:tab algn="l" pos="6624720"/>
                <a:tab algn="l" pos="7134120"/>
                <a:tab algn="l" pos="7643880"/>
                <a:tab algn="l" pos="8153280"/>
                <a:tab algn="l" pos="8663040"/>
                <a:tab algn="l" pos="9172440"/>
                <a:tab algn="l" pos="9682200"/>
                <a:tab algn="l" pos="10191600"/>
                <a:tab algn="l" pos="10701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te schools are by their very nature not eq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762120"/>
            <a:ext cx="8229600" cy="581400"/>
          </a:xfrm>
          <a:prstGeom prst="rect">
            <a:avLst/>
          </a:prstGeom>
          <a:solidFill>
            <a:srgbClr val="fff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 the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separate but equal doct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6:52:13Z</dcterms:created>
  <dc:creator>Magner</dc:creator>
  <dc:description/>
  <dc:language>en-US</dc:language>
  <cp:lastModifiedBy>Magner</cp:lastModifiedBy>
  <dcterms:modified xsi:type="dcterms:W3CDTF">2009-08-29T00:58:07Z</dcterms:modified>
  <cp:revision>11</cp:revision>
  <dc:subject/>
  <dc:title>Slide 1</dc:title>
</cp:coreProperties>
</file>